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A05F-0E42-4E45-B6D2-74A17ED1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0F3D-7A02-4AD7-91EF-B3775323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109E-6F34-41CE-ACCE-D627A1A6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95F2-8B73-4E47-981C-DBB4F430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D0C1-792F-4F2E-A4A7-E26E00B4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6CBE-F686-471F-AEC9-C53CFDAA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F367-C8F3-4F54-95D4-188C5298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E06C-4F7E-4162-A6B4-EDEBE3C2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166D-08C0-4116-BB10-CAC02104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1D58-9512-4E65-B818-4EC4A00B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CCFC-6441-4AFF-B7C5-EBCD4BE8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3B08-6CC7-4D37-A702-D6188A60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5C3F-A78B-497B-BDF6-41D0A435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EBEC-88AA-4263-873A-9A04EB88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4A0C-C033-4CC2-BF8E-A61A8E6E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1158-D299-48AC-AFFD-A9DB3505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E99A-8A63-4A44-ACD2-295C2D78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09AE-AAB7-4B10-B3EB-07AFF477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C204-D341-480A-AE2C-4D1177C7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FDED-462B-4A2D-ACB2-6761DD19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FDC86-9D1E-493F-8B21-3C3A4A27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3AEB-BAD6-4D33-86D7-8B6F198C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FA2C-B597-4149-B665-D10EE570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9A866-57A5-4861-9F62-5F6E38C5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EF3F-FD33-4D73-9091-2F3E996382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7B85-B002-40A5-93AA-01DC0C3712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EN FRANKLIN THE MOV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: Anthony, Jacob, and Jud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he invent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invented swimming fi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developed fire departm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62520" y="1806480"/>
            <a:ext cx="1808280" cy="1771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140796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s job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was a... writer, printer, scientist, inventor, and a statesm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1825560" cy="1522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2303280" cy="3066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3505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ere he was bo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n was born in Boston, New England in 1657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2311560" cy="2847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’s D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n’s dad was a soap and candle mak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46840" y="1600200"/>
            <a:ext cx="1439640" cy="218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4572000" cy="15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’s Hou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647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out Ben we would not have many of the things we have no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1592280" cy="1785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2743200"/>
            <a:ext cx="1549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5:32:36Z</dcterms:created>
  <dc:creator>Montour School District</dc:creator>
  <dc:description/>
  <dc:language>en-US</dc:language>
  <cp:lastModifiedBy>Montour School District</cp:lastModifiedBy>
  <dcterms:modified xsi:type="dcterms:W3CDTF">2008-05-22T13:09:09Z</dcterms:modified>
  <cp:revision>12</cp:revision>
  <dc:subject/>
  <dc:title>BEN FRANKLIN THE MOVIE</dc:title>
</cp:coreProperties>
</file>